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88F-0538-47D2-B051-5099B967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4B0-7A3A-49C3-9159-A56AEE32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1C6-2D7F-48D5-8832-84A1D79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713-C581-47CC-99A8-685C53D1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6A3-2B92-4A5D-99F4-7FF3A8D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FFA-B2FD-43BF-BDF5-9964D13C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A6F-630F-4A6A-B898-51909B7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634-A819-4EEC-98C0-1E95B37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4E4-0C5F-4B56-8B6F-F3B3A20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939-AC64-4D19-B5CB-F84DB19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D36-4C0B-4C4E-B587-72805182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003-89D7-4AC2-80D0-96A8F761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753B-8B72-4BEE-8C51-3CA8831B5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3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34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35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35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3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3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Employee</cp:lastModifiedBy>
  <cp:lastPrinted>2001-08-14T21:30:16Z</cp:lastPrinted>
  <dcterms:modified xsi:type="dcterms:W3CDTF">2009-05-21T13:56:56Z</dcterms:modified>
  <cp:revision>146</cp:revision>
  <dc:subject/>
  <dc:title>PowerPoint Presentation</dc:title>
</cp:coreProperties>
</file>